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1.pct" ContentType="image/x-pict"/>
  <Override PartName="/ppt/media/image6.pct" ContentType="image/x-pict"/>
  <Override PartName="/ppt/media/image29.pct" ContentType="image/x-pict"/>
  <Override PartName="/ppt/media/image10.pct" ContentType="image/x-pict"/>
  <Override PartName="/ppt/media/image5.pct" ContentType="image/x-pict"/>
  <Override PartName="/ppt/media/image28.pct" ContentType="image/x-pict"/>
  <Override PartName="/ppt/media/image4.pct" ContentType="image/x-pict"/>
  <Override PartName="/ppt/media/image27.pct" ContentType="image/x-pict"/>
  <Override PartName="/ppt/media/image3.pct" ContentType="image/x-pict"/>
  <Override PartName="/ppt/media/image26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1.pct" ContentType="image/x-pict"/>
  <Override PartName="/ppt/media/image24.pct" ContentType="image/x-pict"/>
  <Override PartName="/ppt/media/image2.pct" ContentType="image/x-pict"/>
  <Override PartName="/ppt/media/image25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6051-CDE1-4BCF-841D-7AE0F466D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198B-5E1E-4DDF-97A6-AAA86296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37D3-7718-495B-84D2-B6E0A9745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6128-CEBD-4535-A56A-833AEEB52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6D95-E2B2-4AC4-A753-2C8DF59EC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8DF7-17A4-418F-8EC4-2703E183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A004-AB7B-4897-BDB1-A5F85AB6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1AAC-4ACE-498F-B78F-1A16263A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8C43-EDA7-49F1-A2E7-95E5B5A1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EDCEF-66BA-4FD2-A32D-24A594E3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C6488-5E3C-4651-B8D8-F76BB4DB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DB87-21BE-421F-9710-79313FD4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8CB9-2FD3-4669-BEFA-75602D0E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26BE-4215-491D-808A-8A0D149B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0229-F65E-4B45-832A-BCD06957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3CF80-CCE1-4939-AE85-3B3773445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DADF-1E4B-42FD-A7ED-EEC6E8F0A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B925-5CA7-448D-9691-B3DC7557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18F1-77CD-4475-81CE-90D6F0A1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3B7E-FD97-47CA-9829-4CB04DB4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8AE7-564D-49A0-8EB2-96046D64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C671-1E70-4C3B-96EB-F4532387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7749-1BC6-457D-9866-E14F9886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3E0E-11F3-48D2-8D00-81184E8D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585A-B139-41C2-BBDD-46F697718E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D275-F182-4267-99E9-0B813A868F89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ct"/><Relationship Id="rId5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ct"/><Relationship Id="rId5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ct"/><Relationship Id="rId5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ct"/><Relationship Id="rId5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ct"/><Relationship Id="rId5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ct"/><Relationship Id="rId5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ct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ct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ct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ct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ct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ct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ct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8300" spc="-1" strike="noStrike">
                <a:solidFill>
                  <a:srgbClr val="333399"/>
                </a:solidFill>
                <a:latin typeface="Arial"/>
              </a:rPr>
              <a:t>Distributive </a:t>
            </a:r>
            <a:r>
              <a:rPr b="0" lang="en-US" sz="83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8300" spc="-1" strike="noStrike">
                <a:solidFill>
                  <a:srgbClr val="333399"/>
                </a:solidFill>
                <a:latin typeface="Arial"/>
              </a:rPr>
              <a:t>	</a:t>
            </a:r>
            <a:br>
              <a:rPr sz="8300"/>
            </a:br>
            <a:r>
              <a:rPr b="0" lang="en-US" sz="8300" spc="-1" strike="noStrike">
                <a:solidFill>
                  <a:srgbClr val="333399"/>
                </a:solidFill>
                <a:latin typeface="Arial"/>
              </a:rPr>
              <a:t>  Property</a:t>
            </a:r>
            <a:endParaRPr b="0" lang="en-US" sz="83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1752480" y="457200"/>
          <a:ext cx="5334120" cy="22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57200"/>
                    <a:ext cx="533412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1600200" y="3886200"/>
          <a:ext cx="5527800" cy="21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3886200"/>
                    <a:ext cx="5527800" cy="21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304920" y="1143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4648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8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1828800" y="4343400"/>
          <a:ext cx="5369040" cy="129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4343400"/>
                    <a:ext cx="5369040" cy="12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1828800" y="838080"/>
          <a:ext cx="4390920" cy="129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838080"/>
                    <a:ext cx="4390920" cy="12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04920" y="1219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4648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2590920" y="4572000"/>
          <a:ext cx="4230720" cy="12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4572000"/>
                    <a:ext cx="4230720" cy="12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2362320" y="838080"/>
          <a:ext cx="4471920" cy="121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838080"/>
                    <a:ext cx="4471920" cy="12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380880" y="990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4648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1981080" y="4343400"/>
          <a:ext cx="4961160" cy="129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343400"/>
                    <a:ext cx="4961160" cy="12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1295280" y="914400"/>
          <a:ext cx="5610240" cy="121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914400"/>
                    <a:ext cx="5610240" cy="12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457200" y="4648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1143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2057400" y="4572000"/>
          <a:ext cx="3903840" cy="12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4572000"/>
                    <a:ext cx="3903840" cy="12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2209680" y="533520"/>
          <a:ext cx="4308480" cy="121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533520"/>
                    <a:ext cx="4308480" cy="12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457200" y="4648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762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1523880" y="4648320"/>
          <a:ext cx="4391280" cy="12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4648320"/>
                    <a:ext cx="4391280" cy="12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676520" y="457200"/>
          <a:ext cx="4473360" cy="129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57200"/>
                    <a:ext cx="4473360" cy="12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457200" y="4648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8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685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1447920" y="4495680"/>
          <a:ext cx="4962240" cy="12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4495680"/>
                    <a:ext cx="4962240" cy="12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752480" y="914400"/>
          <a:ext cx="4310280" cy="121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914400"/>
                    <a:ext cx="4310280" cy="12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457200" y="46483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9907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523880" y="1066680"/>
          <a:ext cx="341496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066680"/>
                    <a:ext cx="341496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828800" y="4572000"/>
          <a:ext cx="4392720" cy="12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4572000"/>
                    <a:ext cx="439272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380880" y="76212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64832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452600" y="1112760"/>
          <a:ext cx="447192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2600" y="1112760"/>
                    <a:ext cx="447192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1163520" y="4537080"/>
          <a:ext cx="4392720" cy="121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63520" y="4537080"/>
                    <a:ext cx="4392720" cy="12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533520" y="1143000"/>
            <a:ext cx="59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464832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2286000" y="838080"/>
          <a:ext cx="382284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838080"/>
                    <a:ext cx="382284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1905120" y="4191120"/>
          <a:ext cx="5043240" cy="130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4191120"/>
                    <a:ext cx="504324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304920" y="1143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4648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828800" y="609480"/>
          <a:ext cx="6424560" cy="13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609480"/>
                    <a:ext cx="6424560" cy="13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295280" y="4648320"/>
          <a:ext cx="6993000" cy="130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648320"/>
                    <a:ext cx="699300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457200" y="464832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60948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914400" y="609480"/>
          <a:ext cx="797076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609480"/>
                    <a:ext cx="797076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1905120" y="4419720"/>
          <a:ext cx="3903480" cy="130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4419720"/>
                    <a:ext cx="390348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457200" y="4648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838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1752480" y="609480"/>
          <a:ext cx="512460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609480"/>
                    <a:ext cx="51246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600200" y="4495680"/>
          <a:ext cx="4473720" cy="122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4495680"/>
                    <a:ext cx="447372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457200" y="4648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6094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1143000" y="685800"/>
          <a:ext cx="617220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685800"/>
                    <a:ext cx="617220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981080" y="4191120"/>
          <a:ext cx="4876920" cy="164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4191120"/>
                    <a:ext cx="4876920" cy="16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0" y="10666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4648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371600" y="838080"/>
          <a:ext cx="439092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838080"/>
                    <a:ext cx="439092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1447920" y="3809880"/>
          <a:ext cx="4473360" cy="251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3809880"/>
                    <a:ext cx="4473360" cy="25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228600" y="914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4648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11:13:41Z</dcterms:created>
  <dc:creator>PA Department of Education</dc:creator>
  <dc:description/>
  <dc:language>en-US</dc:language>
  <cp:lastModifiedBy>Parkland High School</cp:lastModifiedBy>
  <dcterms:modified xsi:type="dcterms:W3CDTF">2010-10-04T17:12:44Z</dcterms:modified>
  <cp:revision>50</cp:revision>
  <dc:subject/>
  <dc:title>Language of Algebra </dc:title>
</cp:coreProperties>
</file>